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ct" ContentType="image/x-pict"/>
  <Override PartName="/ppt/media/image8.pct" ContentType="image/x-pict"/>
  <Override PartName="/ppt/media/image17.pct" ContentType="image/x-pict"/>
  <Override PartName="/ppt/media/image14.jpeg" ContentType="image/jpeg"/>
  <Override PartName="/ppt/media/image16.pct" ContentType="image/x-pict"/>
  <Override PartName="/ppt/media/image3.jpeg" ContentType="image/jpeg"/>
  <Override PartName="/ppt/media/image15.pct" ContentType="image/x-pict"/>
  <Override PartName="/ppt/media/image1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EC5F-BB86-4620-9EDD-DD40C57F6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uestion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i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all ideas ro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scale of 1-5, how curious are you about the term?  Scale on the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you should consider th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work it will save you in the long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space.dial.pipex.com/odlqc/las1.htm#Distance%20Learning%20Agreemen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quest.org/search/index.php" TargetMode="External"/><Relationship Id="rId3" Type="http://schemas.openxmlformats.org/officeDocument/2006/relationships/hyperlink" Target="http://www.webquest.org/search/index.php" TargetMode="External"/><Relationship Id="rId4" Type="http://schemas.openxmlformats.org/officeDocument/2006/relationships/hyperlink" Target="http://www.webquest.org/search/index.php" TargetMode="External"/><Relationship Id="rId5" Type="http://schemas.openxmlformats.org/officeDocument/2006/relationships/hyperlink" Target="http://www.webquest.org/search/index.php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0" y="4800600"/>
            <a:ext cx="6588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Independent Study &amp;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Learning Agreements</a:t>
            </a:r>
            <a:br>
              <a:rPr sz="3200"/>
            </a:br>
            <a:r>
              <a:rPr b="1" lang="uk-UA" sz="20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Tracy Doni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6600" y="571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uesday, 1:00      Friday, 9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ryone needs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room Instruction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zano, Pickering, Pollock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Similarities &amp; Dif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ing &amp; Note Ta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inforcing Effort &amp; Providing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&amp;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y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&amp; Testing Hypothe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es, Questions, &amp; Advanced Organiz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whe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opic Development for accelerated or remedia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33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3314"/>
                </a:solidFill>
                <a:latin typeface="Arial"/>
              </a:rPr>
              <a:t>Readiness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333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3314"/>
                </a:solidFill>
                <a:latin typeface="Arial"/>
              </a:rPr>
              <a:t>Comp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333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3314"/>
                </a:solidFill>
                <a:latin typeface="Arial"/>
              </a:rPr>
              <a:t>Accelerated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 &amp; Skil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Guide for learning styles &amp;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wh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needs the same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concept is introdu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idea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group discussion is valu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group is wrapping up a concept or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3314"/>
                </a:solidFill>
                <a:latin typeface="Arial"/>
              </a:rPr>
              <a:t>Collaboration, Independence, Cooperation,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part of the 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 how to learn what they should le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part of the agreement: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tudy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KUD &amp; Summative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expected behavi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check-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Communication with students &amp;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14097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’s part of the agreement: 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le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toward KUD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expected behavi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check-up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should it look like on pap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Distance Learning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d Instruction 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Centere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alysis Gr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we keep to create a good learning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we not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1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raises a question related to, but outside the topic being stud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clarifies KUD that must be covered within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may gather data and present it in any way they prefer as long as KUD i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 must set conference dates &amp; dead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1960" y="6172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tevenson, 199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s personal interest based on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ell when a certain product is the teacher’s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Review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onnection to required K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reflection piece for the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2480" y="60958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Joyce &amp; Tallman, 199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utilize Topic Development and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obtain high quality work from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nage differentiated student 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designed for / on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K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or readiness different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webquest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org/search/index.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5"/>
              </a:rPr>
              <a:t>ph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809880" y="4114800"/>
            <a:ext cx="1793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uided Resear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esearch ability is not with the class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pacing &amp; material readability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K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student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/media specia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ve classroo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pic Brows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KUD i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ay need a “spa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ident Exp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follow up to Topic Browsing sub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a specific number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an appropriate product choice for shar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4321080"/>
            <a:ext cx="30481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Differenti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 for different learning style being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tive or </a:t>
            </a:r>
            <a:r>
              <a:rPr b="1" lang="en-US" sz="2400" spc="-1" strike="noStrike">
                <a:solidFill>
                  <a:srgbClr val="c33314"/>
                </a:solidFill>
                <a:latin typeface="Arial"/>
              </a:rPr>
              <a:t>form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ric or 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Respectfu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Open-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328840" cy="1550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1778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f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41936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are disrup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vege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don’t produce what you have in mi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2997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CC”: Collaboration, Independence, Cooper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differentiation in your room on d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expec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rewards/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examples of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&amp; follow a tim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33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Arial"/>
              </a:rPr>
              <a:t>Ancho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work harder than y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person doing the work is the one growing the dendrites. (Wolfe, 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utilize Topic Development and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obtain high quality work from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nage differentiated student 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6000" y="4800600"/>
            <a:ext cx="6588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Independent Study &amp;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Learning Agreements</a:t>
            </a:r>
            <a:br>
              <a:rPr sz="3200"/>
            </a:br>
            <a:r>
              <a:rPr b="1" lang="uk-UA" sz="20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Tracy Doni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6600" y="571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uesday, 1:00      Friday, 9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0384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76520"/>
            <a:ext cx="441972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C”: Collaboration, Independence, Cooperation,    Communicatio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-ended task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 exper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’m Done.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What Should I D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ime wisely” = “look bus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sk”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i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d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into misch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o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1911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Don’t Get It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’m Not Doing It.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14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ime wisely” = “look bus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sk”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d ti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d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into misch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o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ase for independent stu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29000" y="2438280"/>
          <a:ext cx="1295280" cy="44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438280"/>
                    <a:ext cx="12952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5334120" y="1523880"/>
            <a:ext cx="3227040" cy="761760"/>
            <a:chOff x="5334120" y="1523880"/>
            <a:chExt cx="3227040" cy="761760"/>
          </a:xfrm>
        </p:grpSpPr>
        <p:sp>
          <p:nvSpPr>
            <p:cNvPr id="103" name=""/>
            <p:cNvSpPr/>
            <p:nvPr/>
          </p:nvSpPr>
          <p:spPr>
            <a:xfrm>
              <a:off x="5334480" y="1523880"/>
              <a:ext cx="31190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  <a:ea typeface="ＭＳ Ｐゴシック"/>
                </a:rPr>
                <a:t> </a:t>
              </a: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  <a:ea typeface="ＭＳ Ｐゴシック"/>
                </a:rPr>
                <a:t>Academic &amp; Behavior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4120" y="1676520"/>
              <a:ext cx="3227040" cy="60912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8872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1-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080" y="32511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10-1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143000"/>
            <a:ext cx="381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Pyramid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 of Intervent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720960"/>
            <a:ext cx="1332000" cy="3137040"/>
          </a:xfrm>
          <a:custGeom>
            <a:avLst/>
            <a:gdLst/>
            <a:ahLst/>
            <a:rect l="l" t="t" r="r" b="b"/>
            <a:pathLst>
              <a:path w="839" h="1976">
                <a:moveTo>
                  <a:pt x="0" y="0"/>
                </a:moveTo>
                <a:lnTo>
                  <a:pt x="253" y="0"/>
                </a:lnTo>
                <a:lnTo>
                  <a:pt x="839" y="1976"/>
                </a:lnTo>
                <a:lnTo>
                  <a:pt x="0" y="197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05200" y="3701880"/>
            <a:ext cx="1352880" cy="3156120"/>
          </a:xfrm>
          <a:custGeom>
            <a:avLst/>
            <a:gdLst/>
            <a:ahLst/>
            <a:rect l="l" t="t" r="r" b="b"/>
            <a:pathLst>
              <a:path w="852" h="1988">
                <a:moveTo>
                  <a:pt x="259" y="0"/>
                </a:moveTo>
                <a:lnTo>
                  <a:pt x="265" y="0"/>
                </a:lnTo>
                <a:lnTo>
                  <a:pt x="852" y="1988"/>
                </a:lnTo>
                <a:lnTo>
                  <a:pt x="0" y="1988"/>
                </a:lnTo>
                <a:lnTo>
                  <a:pt x="0" y="6"/>
                </a:lnTo>
                <a:lnTo>
                  <a:pt x="13" y="6"/>
                </a:lnTo>
                <a:lnTo>
                  <a:pt x="13" y="1976"/>
                </a:lnTo>
                <a:lnTo>
                  <a:pt x="833" y="1976"/>
                </a:lnTo>
                <a:lnTo>
                  <a:pt x="252" y="6"/>
                </a:lnTo>
                <a:lnTo>
                  <a:pt x="2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05200" y="3701880"/>
            <a:ext cx="411480" cy="19080"/>
          </a:xfrm>
          <a:custGeom>
            <a:avLst/>
            <a:gdLst/>
            <a:ahLst/>
            <a:rect l="l" t="t" r="r" b="b"/>
            <a:pathLst>
              <a:path w="259" h="12">
                <a:moveTo>
                  <a:pt x="0" y="6"/>
                </a:moveTo>
                <a:lnTo>
                  <a:pt x="0" y="0"/>
                </a:lnTo>
                <a:lnTo>
                  <a:pt x="259" y="0"/>
                </a:lnTo>
                <a:lnTo>
                  <a:pt x="259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448000"/>
            <a:ext cx="179640" cy="598320"/>
          </a:xfrm>
          <a:custGeom>
            <a:avLst/>
            <a:gdLst/>
            <a:ahLst/>
            <a:rect l="l" t="t" r="r" b="b"/>
            <a:pathLst>
              <a:path w="114" h="377">
                <a:moveTo>
                  <a:pt x="0" y="0"/>
                </a:moveTo>
                <a:lnTo>
                  <a:pt x="0" y="377"/>
                </a:lnTo>
                <a:lnTo>
                  <a:pt x="114" y="37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2448000"/>
            <a:ext cx="201600" cy="608040"/>
          </a:xfrm>
          <a:custGeom>
            <a:avLst/>
            <a:gdLst/>
            <a:ahLst/>
            <a:rect l="l" t="t" r="r" b="b"/>
            <a:pathLst>
              <a:path w="126" h="383">
                <a:moveTo>
                  <a:pt x="6" y="371"/>
                </a:moveTo>
                <a:lnTo>
                  <a:pt x="114" y="371"/>
                </a:lnTo>
                <a:lnTo>
                  <a:pt x="0" y="0"/>
                </a:lnTo>
                <a:lnTo>
                  <a:pt x="13" y="0"/>
                </a:lnTo>
                <a:lnTo>
                  <a:pt x="126" y="383"/>
                </a:lnTo>
                <a:lnTo>
                  <a:pt x="0" y="383"/>
                </a:lnTo>
                <a:lnTo>
                  <a:pt x="0" y="377"/>
                </a:lnTo>
                <a:lnTo>
                  <a:pt x="6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5200" y="2381400"/>
            <a:ext cx="20880" cy="664920"/>
          </a:xfrm>
          <a:custGeom>
            <a:avLst/>
            <a:gdLst/>
            <a:ahLst/>
            <a:rect l="l" t="t" r="r" b="b"/>
            <a:pathLst>
              <a:path w="13" h="419">
                <a:moveTo>
                  <a:pt x="13" y="42"/>
                </a:moveTo>
                <a:lnTo>
                  <a:pt x="13" y="419"/>
                </a:lnTo>
                <a:lnTo>
                  <a:pt x="0" y="419"/>
                </a:lnTo>
                <a:lnTo>
                  <a:pt x="0" y="0"/>
                </a:lnTo>
                <a:lnTo>
                  <a:pt x="13" y="42"/>
                </a:lnTo>
                <a:lnTo>
                  <a:pt x="1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046320"/>
            <a:ext cx="400320" cy="674640"/>
          </a:xfrm>
          <a:custGeom>
            <a:avLst/>
            <a:gdLst/>
            <a:ahLst/>
            <a:rect l="l" t="t" r="r" b="b"/>
            <a:pathLst>
              <a:path w="253" h="425">
                <a:moveTo>
                  <a:pt x="0" y="0"/>
                </a:moveTo>
                <a:lnTo>
                  <a:pt x="0" y="425"/>
                </a:lnTo>
                <a:lnTo>
                  <a:pt x="253" y="425"/>
                </a:lnTo>
                <a:lnTo>
                  <a:pt x="1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5200" y="3036960"/>
            <a:ext cx="420840" cy="693720"/>
          </a:xfrm>
          <a:custGeom>
            <a:avLst/>
            <a:gdLst/>
            <a:ahLst/>
            <a:rect l="l" t="t" r="r" b="b"/>
            <a:pathLst>
              <a:path w="265" h="437">
                <a:moveTo>
                  <a:pt x="6" y="425"/>
                </a:moveTo>
                <a:lnTo>
                  <a:pt x="252" y="425"/>
                </a:lnTo>
                <a:lnTo>
                  <a:pt x="120" y="12"/>
                </a:lnTo>
                <a:lnTo>
                  <a:pt x="6" y="12"/>
                </a:lnTo>
                <a:lnTo>
                  <a:pt x="6" y="0"/>
                </a:lnTo>
                <a:lnTo>
                  <a:pt x="126" y="0"/>
                </a:lnTo>
                <a:lnTo>
                  <a:pt x="265" y="437"/>
                </a:lnTo>
                <a:lnTo>
                  <a:pt x="0" y="437"/>
                </a:lnTo>
                <a:lnTo>
                  <a:pt x="0" y="431"/>
                </a:lnTo>
                <a:lnTo>
                  <a:pt x="6" y="4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05200" y="3036960"/>
            <a:ext cx="20880" cy="684000"/>
          </a:xfrm>
          <a:custGeom>
            <a:avLst/>
            <a:gdLst/>
            <a:ahLst/>
            <a:rect l="l" t="t" r="r" b="b"/>
            <a:pathLst>
              <a:path w="13" h="431">
                <a:moveTo>
                  <a:pt x="13" y="6"/>
                </a:moveTo>
                <a:lnTo>
                  <a:pt x="13" y="431"/>
                </a:lnTo>
                <a:lnTo>
                  <a:pt x="0" y="431"/>
                </a:lnTo>
                <a:lnTo>
                  <a:pt x="0" y="0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0"/>
            <a:ext cx="312408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Quality Classroom Instru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upplemental Classroom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75-8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90920" y="4876920"/>
            <a:ext cx="45720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200400"/>
            <a:ext cx="27432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upplemental, small group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429000"/>
            <a:ext cx="38088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514600"/>
            <a:ext cx="3505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I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pecific, supplemental, intensive, 1-on-1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429000" y="2743200"/>
            <a:ext cx="45720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ase for independent stu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children how to learn instead of what to learn (Marlowe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delve d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, concentration, discipline &amp;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cannot slide by on the anonymity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562720" y="2133720"/>
          <a:ext cx="2590560" cy="198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133720"/>
                    <a:ext cx="2590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isn’t really so independ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oactiv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eaching instead of re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cepts and skills should be defined (KUD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xact parameters of their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he types and numbers of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he form conclusions should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formats that may be used to present the results should be clearly spelled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gment the learning sequenc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provide a variety of learning activities that may be used to arrive at specified outco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ild in monitoring of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ehaviora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ggest ways to study in greater depth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isn’t really so independ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ocative questions or activities to stimulate the learner's creativity such as those described by Phil Schlemmer (1999) for students in grade six and above can be used in concert with a traditional curricul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no longer fail; they simply make less progress in the learning sequence (RIT Sc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student's special projects should be recorded as part of an educational file o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C”: Collaboration, Independence, Cooperation, 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8-08-25T19:21:40Z</cp:lastPrinted>
  <dcterms:modified xsi:type="dcterms:W3CDTF">2009-06-16T02:33:00Z</dcterms:modified>
  <cp:revision>83</cp:revision>
  <dc:subject/>
  <dc:title>PowerPoint Template</dc:title>
</cp:coreProperties>
</file>